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82CE-8D22-4464-A3E5-006452063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70CE-0250-401A-BCE5-A4C00FC64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5BEC-7726-400E-A611-DBF17AB7F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0180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7216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144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0180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57216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44AF-C83E-40C6-8DE9-6D72315DE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31800" y="-27000"/>
            <a:ext cx="7416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D974-E5A0-41C0-B87A-31B5EA85B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0180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7216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3144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0180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7216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3F96-1410-4E9A-A900-FDBCAF993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793D-FB58-44FB-A10D-2A279B017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5588-F2C1-401A-8304-DC69BE0A5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31800" y="-27000"/>
            <a:ext cx="7416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18CC-13CC-4767-99B2-3797CB602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BFB8-3724-4109-A210-0065C1F5F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2C94-97D3-4487-AB96-6B883C7D6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9E53-167F-490C-A471-EDF62FC3A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640"/>
            <a:ext cx="990612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906120" cy="333360"/>
          </a:xfrm>
          <a:prstGeom prst="rect">
            <a:avLst/>
          </a:prstGeom>
          <a:solidFill>
            <a:srgbClr val="0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6120" cy="69228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266760">
              <a:spcBef>
                <a:spcPts val="1250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481960" y="6597360"/>
            <a:ext cx="14241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p</a:t>
            </a:r>
            <a:fld id="{2416C2C7-6C1B-4328-A9F1-623E16B2263D}" type="slidenum"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09440" cy="1009800"/>
            <a:chOff x="0" y="0"/>
            <a:chExt cx="1009440" cy="10098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360" y="144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87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360" y="431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872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3080" y="14436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88720" y="287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33080" y="43164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76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4360" y="720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88720" y="576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865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6000" y="28872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6000" y="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0720" y="144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08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3" name=""/>
          <p:cNvSpPr/>
          <p:nvPr/>
        </p:nvSpPr>
        <p:spPr>
          <a:xfrm>
            <a:off x="156240" y="6626160"/>
            <a:ext cx="29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Copyright©2011 Digipot.net Copyright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8337600" y="115920"/>
            <a:ext cx="1439640" cy="433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ロゴ、社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ブランド名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6160" y="1916280"/>
            <a:ext cx="8353440" cy="259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49240" y="1989000"/>
            <a:ext cx="1009440" cy="1009800"/>
            <a:chOff x="849240" y="1989000"/>
            <a:chExt cx="1009440" cy="1009800"/>
          </a:xfrm>
        </p:grpSpPr>
        <p:sp>
          <p:nvSpPr>
            <p:cNvPr id="63" name=""/>
            <p:cNvSpPr/>
            <p:nvPr/>
          </p:nvSpPr>
          <p:spPr>
            <a:xfrm>
              <a:off x="84924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93600" y="213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9240" y="2276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600" y="2420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796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82320" y="213336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7960" y="2276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82320" y="242064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9240" y="2565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3600" y="270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7960" y="2565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9240" y="2854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25240" y="227772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25240" y="198900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9960" y="213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1432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048520" y="3428640"/>
            <a:ext cx="1009440" cy="1009800"/>
            <a:chOff x="8048520" y="3428640"/>
            <a:chExt cx="1009440" cy="1009800"/>
          </a:xfrm>
        </p:grpSpPr>
        <p:sp>
          <p:nvSpPr>
            <p:cNvPr id="80" name=""/>
            <p:cNvSpPr/>
            <p:nvPr/>
          </p:nvSpPr>
          <p:spPr>
            <a:xfrm rot="10800000">
              <a:off x="891360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8769240" y="414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8913600" y="40068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8769240" y="3862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862488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8480160" y="414972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8624880" y="40068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8480160" y="386208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8913600" y="3717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8769240" y="357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8624880" y="3717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8913600" y="3428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8337240" y="400500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8337240" y="429408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8192880" y="414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0800000">
              <a:off x="804852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1800" y="263700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7" name=""/>
          <p:cNvSpPr/>
          <p:nvPr/>
        </p:nvSpPr>
        <p:spPr>
          <a:xfrm>
            <a:off x="156240" y="6626160"/>
            <a:ext cx="29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Copyright©2011 Digipot.net Copyright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メイリオ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  <a:p>
            <a:pPr lvl="1" marL="26676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 algn="ctr">
              <a:spcBef>
                <a:spcPts val="751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メイリオ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1800" y="263700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メイリオ"/>
              </a:rPr>
              <a:t>○○○○</a:t>
            </a:r>
            <a:r>
              <a:rPr b="1" lang="zh-CN" sz="3200" spc="-1" strike="noStrike">
                <a:solidFill>
                  <a:srgbClr val="ffffff"/>
                </a:solidFill>
                <a:latin typeface="メイリオ"/>
              </a:rPr>
              <a:t>ソリューショ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メイリオ"/>
              </a:rPr>
              <a:t>ご提案書</a:t>
            </a:r>
            <a:endParaRPr b="1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39800" y="2205000"/>
            <a:ext cx="6934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メイリオ"/>
              </a:rPr>
              <a:t>～○○の悩みを解決する～</a:t>
            </a: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7" name=""/>
          <p:cNvSpPr/>
          <p:nvPr/>
        </p:nvSpPr>
        <p:spPr>
          <a:xfrm>
            <a:off x="776160" y="5805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株式会社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160" y="5013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○○○○○ 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7600" y="907920"/>
            <a:ext cx="4464000" cy="244980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５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実績　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4105440" cy="7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6" name=""/>
          <p:cNvSpPr/>
          <p:nvPr/>
        </p:nvSpPr>
        <p:spPr>
          <a:xfrm>
            <a:off x="417600" y="3571920"/>
            <a:ext cx="4464000" cy="244944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1800" y="3716280"/>
            <a:ext cx="4105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97600" y="907920"/>
            <a:ext cx="4464000" cy="244980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11800" y="1052640"/>
            <a:ext cx="410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97600" y="3571920"/>
            <a:ext cx="4464000" cy="244944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11800" y="3716280"/>
            <a:ext cx="410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47960" y="60930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他にも約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メイリオ"/>
              </a:rPr>
              <a:t>30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件の導入実績が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860A-058D-47D8-BDF7-412CD9518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6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金額概算　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8880" y="974880"/>
          <a:ext cx="9001080" cy="4033800"/>
        </p:xfrm>
        <a:graphic>
          <a:graphicData uri="http://schemas.openxmlformats.org/drawingml/2006/table">
            <a:tbl>
              <a:tblPr/>
              <a:tblGrid>
                <a:gridCol w="655560"/>
                <a:gridCol w="4876920"/>
                <a:gridCol w="1123920"/>
                <a:gridCol w="657360"/>
                <a:gridCol w="168732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88880" y="5154480"/>
            <a:ext cx="9001080" cy="43200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5400" y="518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導入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56880" y="570564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71320" y="518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ADBD-F643-4FBC-BE58-30A4645760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７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お問い合わせ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10" name=""/>
          <p:cNvSpPr/>
          <p:nvPr/>
        </p:nvSpPr>
        <p:spPr>
          <a:xfrm>
            <a:off x="704880" y="1268280"/>
            <a:ext cx="8785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株式会社◎◎◎コーポレーション　システムサービス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世田谷区◎◎◎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丁目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-0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◎◎◎ビル３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電話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03-0000-XXXX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:03-0000-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ww.digi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担当　山田太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携帯　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0-000-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ール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information@xxxxxxxxx.co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98F8-675F-48DE-9561-35F13F79B3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はじめに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この度は、ご提案の機会を賜り厚く御礼申し上げ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（定型文ではなく、会社の得意分野、実績などをアピールする文章を挿入すること）弊社は、この○○分野に於きましては業界でトップシェアを誇り、すでに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社あまりの導入実績がございますので、アフターサポートに関しても自信がござい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是非、ご提案を採用いただき、弊社にご用命くださいますよう宜しくお願い申し上げ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株式会社○○○　営業部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64AF-0C3D-4556-9F46-5E41452EE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目次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31800" y="1052640"/>
          <a:ext cx="8785080" cy="5073480"/>
        </p:xfrm>
        <a:graphic>
          <a:graphicData uri="http://schemas.openxmlformats.org/drawingml/2006/table">
            <a:tbl>
              <a:tblPr/>
              <a:tblGrid>
                <a:gridCol w="5761080"/>
                <a:gridCol w="2232000"/>
                <a:gridCol w="79200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6682-B05D-492A-8144-697B43ADC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１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ご提案のセールスポイン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6" name=""/>
          <p:cNvSpPr/>
          <p:nvPr/>
        </p:nvSpPr>
        <p:spPr>
          <a:xfrm>
            <a:off x="1136520" y="981000"/>
            <a:ext cx="8353440" cy="165600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2880" y="907920"/>
            <a:ext cx="1366920" cy="720720"/>
            <a:chOff x="272880" y="907920"/>
            <a:chExt cx="1366920" cy="720720"/>
          </a:xfrm>
        </p:grpSpPr>
        <p:sp>
          <p:nvSpPr>
            <p:cNvPr id="148" name=""/>
            <p:cNvSpPr/>
            <p:nvPr/>
          </p:nvSpPr>
          <p:spPr>
            <a:xfrm>
              <a:off x="272880" y="907920"/>
              <a:ext cx="1366920" cy="720720"/>
            </a:xfrm>
            <a:custGeom>
              <a:avLst/>
              <a:gdLst>
                <a:gd name="textAreaLeft" fmla="*/ 321120 w 1366920"/>
                <a:gd name="textAreaRight" fmla="*/ 1045800 w 136692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560520" y="1125360"/>
              <a:ext cx="86364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36520" y="2781360"/>
            <a:ext cx="8353440" cy="165564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6520" y="4581360"/>
            <a:ext cx="8353440" cy="165600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72880" y="2852640"/>
            <a:ext cx="1366920" cy="720720"/>
            <a:chOff x="272880" y="2852640"/>
            <a:chExt cx="1366920" cy="720720"/>
          </a:xfrm>
        </p:grpSpPr>
        <p:sp>
          <p:nvSpPr>
            <p:cNvPr id="153" name=""/>
            <p:cNvSpPr/>
            <p:nvPr/>
          </p:nvSpPr>
          <p:spPr>
            <a:xfrm>
              <a:off x="272880" y="2852640"/>
              <a:ext cx="1366920" cy="720720"/>
            </a:xfrm>
            <a:custGeom>
              <a:avLst/>
              <a:gdLst>
                <a:gd name="textAreaLeft" fmla="*/ 321120 w 1366920"/>
                <a:gd name="textAreaRight" fmla="*/ 1045800 w 136692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60520" y="3070080"/>
              <a:ext cx="86364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0160" y="4653000"/>
            <a:ext cx="1366560" cy="720720"/>
            <a:chOff x="200160" y="4653000"/>
            <a:chExt cx="1366560" cy="720720"/>
          </a:xfrm>
        </p:grpSpPr>
        <p:sp>
          <p:nvSpPr>
            <p:cNvPr id="156" name=""/>
            <p:cNvSpPr/>
            <p:nvPr/>
          </p:nvSpPr>
          <p:spPr>
            <a:xfrm>
              <a:off x="200160" y="4653000"/>
              <a:ext cx="1366560" cy="720720"/>
            </a:xfrm>
            <a:custGeom>
              <a:avLst/>
              <a:gdLst>
                <a:gd name="textAreaLeft" fmla="*/ 321120 w 1366560"/>
                <a:gd name="textAreaRight" fmla="*/ 1045440 w 136656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87440" y="4870440"/>
              <a:ext cx="86328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20960" y="1052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20960" y="29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20960" y="47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E9D0-1ECC-4DF5-8B41-2F8808F679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全体の概要を説明。（ここでは、どういうソリューションなのかを簡単に説明する。）文字だけ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NG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必ず図を挿入すること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"/>
          <p:cNvSpPr/>
          <p:nvPr/>
        </p:nvSpPr>
        <p:spPr>
          <a:xfrm>
            <a:off x="560520" y="2852640"/>
            <a:ext cx="8856360" cy="33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概要図を挿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CF9C-6F56-446C-82AF-CEADB4115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6" name=""/>
          <p:cNvSpPr/>
          <p:nvPr/>
        </p:nvSpPr>
        <p:spPr>
          <a:xfrm>
            <a:off x="1307520" y="8366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２－１．システム構成（任意のタイト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2160" y="1341000"/>
            <a:ext cx="84247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メイリオ"/>
              </a:rPr>
              <a:t>詳細を記載。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C6F6-3B5F-4165-BF64-0744C0EE92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9" name=""/>
          <p:cNvSpPr/>
          <p:nvPr/>
        </p:nvSpPr>
        <p:spPr>
          <a:xfrm>
            <a:off x="1384200" y="83664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２－２．ソリューションの体系（任意のタイト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2160" y="1341000"/>
            <a:ext cx="8424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詳細を記載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5805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必要に応じて追記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C09A-46CD-4C35-880F-5F9B6C6B1C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３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メンテナンスとアフターサービスについて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850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概要を説明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3E62-3E58-42AE-91E4-87509E610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44520" y="981000"/>
            <a:ext cx="4608360" cy="5400720"/>
          </a:xfrm>
          <a:custGeom>
            <a:avLst/>
            <a:gdLst>
              <a:gd name="textAreaLeft" fmla="*/ 33840 w 4608360"/>
              <a:gd name="textAreaRight" fmla="*/ 4574520 w 4608360"/>
              <a:gd name="textAreaTop" fmla="*/ 33840 h 5400720"/>
              <a:gd name="textAreaBottom" fmla="*/ 5366880 h 5400720"/>
            </a:gdLst>
            <a:ahLst/>
            <a:rect l="textAreaLeft" t="textAreaTop" r="textAreaRight" b="textAreaBottom"/>
            <a:pathLst>
              <a:path w="21600" h="25314">
                <a:moveTo>
                  <a:pt x="543" y="0"/>
                </a:moveTo>
                <a:arcTo wR="543" hR="543" stAng="16200000" swAng="-5400000"/>
                <a:lnTo>
                  <a:pt x="0" y="24771"/>
                </a:lnTo>
                <a:arcTo wR="543" hR="543" stAng="10800000" swAng="-5400000"/>
                <a:lnTo>
                  <a:pt x="21057" y="25314"/>
                </a:lnTo>
                <a:arcTo wR="543" hR="543" stAng="5400000" swAng="-5400000"/>
                <a:lnTo>
                  <a:pt x="21600" y="543"/>
                </a:lnTo>
                <a:arcTo wR="543" hR="543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４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のメリットとデメリッ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981000"/>
            <a:ext cx="4608720" cy="5400720"/>
          </a:xfrm>
          <a:custGeom>
            <a:avLst/>
            <a:gdLst>
              <a:gd name="textAreaLeft" fmla="*/ 33840 w 4608720"/>
              <a:gd name="textAreaRight" fmla="*/ 4574880 w 4608720"/>
              <a:gd name="textAreaTop" fmla="*/ 33840 h 5400720"/>
              <a:gd name="textAreaBottom" fmla="*/ 5366880 h 5400720"/>
            </a:gdLst>
            <a:ahLst/>
            <a:rect l="textAreaLeft" t="textAreaTop" r="textAreaRight" b="textAreaBottom"/>
            <a:pathLst>
              <a:path w="21600" h="25312">
                <a:moveTo>
                  <a:pt x="543" y="0"/>
                </a:moveTo>
                <a:arcTo wR="543" hR="543" stAng="16200000" swAng="-5400000"/>
                <a:lnTo>
                  <a:pt x="0" y="24769"/>
                </a:lnTo>
                <a:arcTo wR="543" hR="543" stAng="10800000" swAng="-5400000"/>
                <a:lnTo>
                  <a:pt x="21057" y="25312"/>
                </a:lnTo>
                <a:arcTo wR="543" hR="543" stAng="5400000" swAng="-5400000"/>
                <a:lnTo>
                  <a:pt x="21600" y="543"/>
                </a:lnTo>
                <a:arcTo wR="543" hR="543" stAng="0" swAng="-5400000"/>
                <a:close/>
              </a:path>
            </a:pathLst>
          </a:cu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553600" y="836640"/>
            <a:ext cx="1079280" cy="107964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857240" y="909720"/>
            <a:ext cx="19447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3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メイリオ"/>
              </a:rPr>
              <a:t>メリット</a:t>
            </a:r>
            <a:endParaRPr b="1" lang="en-US" sz="1800" spc="1" strike="noStrike">
              <a:ln w="63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61240" y="836640"/>
            <a:ext cx="1944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3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メイリオ"/>
              </a:rPr>
              <a:t>デメリット</a:t>
            </a:r>
            <a:endParaRPr b="1" lang="en-US" sz="1800" spc="1" strike="noStrike">
              <a:ln w="63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2880" y="836640"/>
            <a:ext cx="1079640" cy="1079640"/>
            <a:chOff x="272880" y="836640"/>
            <a:chExt cx="1079640" cy="1079640"/>
          </a:xfrm>
        </p:grpSpPr>
        <p:sp>
          <p:nvSpPr>
            <p:cNvPr id="182" name=""/>
            <p:cNvSpPr/>
            <p:nvPr/>
          </p:nvSpPr>
          <p:spPr>
            <a:xfrm>
              <a:off x="272880" y="836640"/>
              <a:ext cx="1079640" cy="10796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0520" y="1125360"/>
              <a:ext cx="144360" cy="287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0880" y="1125360"/>
              <a:ext cx="144360" cy="287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560520" y="1197000"/>
              <a:ext cx="504720" cy="504720"/>
            </a:xfrm>
            <a:prstGeom prst="blockArc">
              <a:avLst>
                <a:gd name="adj1" fmla="val 11884476"/>
                <a:gd name="adj2" fmla="val 20515524"/>
                <a:gd name="adj3" fmla="val 185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697960" y="1197000"/>
            <a:ext cx="792000" cy="216000"/>
            <a:chOff x="8697960" y="1197000"/>
            <a:chExt cx="792000" cy="216000"/>
          </a:xfrm>
        </p:grpSpPr>
        <p:sp>
          <p:nvSpPr>
            <p:cNvPr id="187" name=""/>
            <p:cNvSpPr/>
            <p:nvPr/>
          </p:nvSpPr>
          <p:spPr>
            <a:xfrm>
              <a:off x="8697960" y="1197000"/>
              <a:ext cx="330480" cy="216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45"/>
                  </a:lnTo>
                  <a:lnTo>
                    <a:pt x="45" y="136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9159480" y="1197000"/>
              <a:ext cx="330480" cy="216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45"/>
                  </a:lnTo>
                  <a:lnTo>
                    <a:pt x="45" y="136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1800" y="2060280"/>
            <a:ext cx="4105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１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２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３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0" name=""/>
          <p:cNvSpPr/>
          <p:nvPr/>
        </p:nvSpPr>
        <p:spPr>
          <a:xfrm>
            <a:off x="5240160" y="2060640"/>
            <a:ext cx="41054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57240" y="909720"/>
            <a:ext cx="19447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ff"/>
                </a:solidFill>
                <a:latin typeface="メイリオ"/>
              </a:rPr>
              <a:t>メリット</a:t>
            </a:r>
            <a:endParaRPr b="1" lang="en-US" sz="1800" spc="1" strike="noStrike">
              <a:ln w="0">
                <a:noFill/>
              </a:ln>
              <a:solidFill>
                <a:srgbClr val="3366ff"/>
              </a:solidFill>
              <a:latin typeface="メイリオ"/>
              <a:ea typeface="メイリオ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61240" y="836640"/>
            <a:ext cx="1944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/>
                </a:solidFill>
                <a:latin typeface="メイリオ"/>
              </a:rPr>
              <a:t>デメリット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メイリオ"/>
              <a:ea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90AC-069E-481B-9B28-FB807093B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4:25Z</dcterms:created>
  <dc:creator>http://www.digipot.net</dc:creator>
  <dc:description/>
  <cp:keywords>提案書 企画書</cp:keywords>
  <dc:language>en-US</dc:language>
  <cp:lastModifiedBy>http://www.digipot.net</cp:lastModifiedBy>
  <dcterms:modified xsi:type="dcterms:W3CDTF">2011-10-24T07:13:56Z</dcterms:modified>
  <cp:revision>1</cp:revision>
  <dc:subject>PPT090_提案書テンプレート</dc:subject>
  <dc:title>PPT090_提案書テンプレート</dc:title>
</cp:coreProperties>
</file>